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7F8-3046-4E2B-8BB6-7D4AF448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5F3-7571-4394-9720-29904ABC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DFD-125E-40DA-A382-7584CCFE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D37-B15E-429B-9648-A8F53F20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3051F-5758-4B44-A8C0-A68AA201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0935A-2233-43B8-88A3-8AAE062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AE1EE-5D3A-40E4-8D96-3A398D04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8461-14FA-44F3-BD0D-38085818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64680-B59D-41A7-B6D7-94C20DE3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093C9-BA77-4D0A-8FB7-07D90EF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5040E-B4C4-42F5-8A1F-91FD6AC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F01-328F-4175-87C3-D80234BA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49E5-5617-4673-92BE-6D61261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C74C-0EEE-42B3-B208-0DCFB51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30927-B6A5-4B14-87E8-CAA63654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C63CE-72C8-47F6-82B2-E8F2726E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CF70-20EF-495F-866F-D7248E92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E0C-E3D3-48C2-918B-D7CB67E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0DD-017F-4FCD-84EB-27547612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6BC-9599-4DE8-9194-B5FD5FD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0B7-D4D2-405E-B98F-C4B9C4A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69D-FC69-4809-9D06-719D6F8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793-B528-45FF-BBDB-2AC54B5F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A45-C551-4E7D-AC40-43FDEF15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73C-9DF3-4EDC-BF38-28FDFD73C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AFB2-C943-4382-A82D-B9B724397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05120" y="1676520"/>
            <a:ext cx="5410080" cy="16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91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Voluntariatul şi relaţii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interpersona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-proiect educaţional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2971800"/>
            <a:ext cx="712476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aliza nevoilor de învăţare ale elevi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fesor psihopedagog Taisia T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8236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rafic K-W-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pletati coloanele de mai jos 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2286000"/>
          <a:ext cx="7467480" cy="4454640"/>
        </p:xfrm>
        <a:graphic>
          <a:graphicData uri="http://schemas.openxmlformats.org/drawingml/2006/table">
            <a:tbl>
              <a:tblPr/>
              <a:tblGrid>
                <a:gridCol w="2394000"/>
                <a:gridCol w="2536560"/>
                <a:gridCol w="2536920"/>
              </a:tblGrid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tiu despre voluntari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s vrea sa stiu despre voluntari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m invatat in legatura cu acest subi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Intrebarea esenţială a proiectului nostru?</a:t>
            </a:r>
            <a:br>
              <a:rPr sz="2800"/>
            </a:br>
            <a:r>
              <a:rPr b="1" i="1" lang="ro-RO" sz="4000" spc="-1" strike="noStrike">
                <a:solidFill>
                  <a:srgbClr val="ffffff"/>
                </a:solidFill>
                <a:latin typeface="Tahoma"/>
              </a:rPr>
              <a:t>Cum pot să mă fac util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e este important să află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ffffff"/>
                </a:solidFill>
                <a:latin typeface="Tahoma"/>
              </a:rPr>
              <a:t>Cine su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ffffff"/>
                </a:solidFill>
                <a:latin typeface="Tahoma"/>
              </a:rPr>
              <a:t>Pe cine pot să aju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ffffff"/>
                </a:solidFill>
                <a:latin typeface="Tahoma"/>
              </a:rPr>
              <a:t>Cum pot să aju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ffffff"/>
                </a:solidFill>
                <a:latin typeface="Tahoma"/>
              </a:rPr>
              <a:t>Care sunt problemele mediului social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362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ahoma"/>
              </a:rPr>
              <a:t>Ce înseamnă voluntaria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58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ffffff"/>
                </a:solidFill>
                <a:latin typeface="Tahoma"/>
              </a:rPr>
              <a:t>Care sunt modalităţile de comunic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58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8195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Tahoma"/>
              </a:rPr>
              <a:t>Cum pot să devin o persoană asertiv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0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ahoma"/>
              </a:rPr>
              <a:t>La ce-mi foloseşte empati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597040"/>
            <a:ext cx="822960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16761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Tahoma"/>
              </a:rPr>
              <a:t>Care sunt paşii pe care pot să-i urmez pentru a-i ajuta pe ceilalţi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36720"/>
            <a:ext cx="822960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505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e parcursul activităţilor noastre vom descoperi răspunsurile la aceste întrebări şi ne vom dezvolta o serie de abilităţ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04-08T09:00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